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D98-0E38-42F3-9F90-C46E72BE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2A7-BB2E-463C-AF38-A05BB5A4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53E-5711-422C-94FF-B77FEA98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EEC-7F06-464B-B7B1-594DA822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140-5155-4D49-9F47-71D74CAC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7AF-52AB-4F72-A63D-497B9EF9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F0B-2082-4762-B8BB-E446F546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40C-C734-4228-8DDB-5FCC359B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EDF-5313-4653-8586-B80F16E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924-513E-4495-898A-CB4476EF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581-160E-490C-B70D-82C3648A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78B-0480-48D1-91AB-A540FB2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FB37-54F6-4B1D-A8FE-CD86C5620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8520" y="203040"/>
            <a:ext cx="4800600" cy="73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25833" t="18750" r="25833" b="3905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1:25:03Z</dcterms:created>
  <dc:creator>daniel.king</dc:creator>
  <dc:description/>
  <dc:language>en-US</dc:language>
  <cp:lastModifiedBy>daniel.king</cp:lastModifiedBy>
  <dcterms:modified xsi:type="dcterms:W3CDTF">2009-03-25T21:27:26Z</dcterms:modified>
  <cp:revision>1</cp:revision>
  <dc:subject/>
  <dc:title>Slide 1</dc:title>
</cp:coreProperties>
</file>